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A438-C2F6-498C-A458-81F23047AE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E8B3-DD86-48D6-9D4F-6884364186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F184-7233-4850-872E-B1D63B3C93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51D-9CA7-4A43-89FB-975B91B2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17C-25F1-4D43-8302-0F0D7C94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607-DA0F-4723-A04B-B9D139F0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9754-6C12-4D4B-AB40-C9B4293A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B83-12ED-487D-BF1D-C95307BF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7FC-F849-40A7-92E0-A85052B8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8AD-1668-450A-8BCA-EF6F33A1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115B-4028-455F-AA2A-3AD307D3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3B5-6F0E-4E64-B06C-C61D1CA0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D8A-5A19-4F75-AE25-C6565D9F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B34-952B-4D88-9CC3-5E6B0F5E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9B2-E363-4967-81FD-9777F3F5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1276-1106-42B0-8F8B-BA459D7150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5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pn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9.jpe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rina Bela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trina Bel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 fotos de Katrina Bel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2324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ar mensaje a Katrina Bel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pea a Katrina Bel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  <a:ea typeface="ＭＳ Ｐゴシック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7320" y="46213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7320" y="4392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0626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gel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2004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8600" y="3581280"/>
            <a:ext cx="142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! Me llamo Katrina. Vivo en Astoria, Nueva York. Yo tengo quince años. No, tengo hermanos. Yo so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cioso y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ige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457200" y="50626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a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9080" y="5637240"/>
            <a:ext cx="7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 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968400" y="49100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i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16200" y="3790800"/>
            <a:ext cx="3886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y enferma. Soy de la ciudad de Astori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681280" y="3208320"/>
            <a:ext cx="425304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            Daph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y bien, gracias,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tu?.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De donde ere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30 minutes ago   Octubre 21, de 2011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692440" y="253836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Buenas Tardes!!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¿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05040" y="4430880"/>
            <a:ext cx="42292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Ange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chica!! 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ándo me vas a visitar?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2  minutes ago   Octubre 22, de 201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92440" y="5181480"/>
            <a:ext cx="4241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Jennifer!! Yo quiero ir a tu fies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: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 minute ago       Octubre 22, de 2011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664000" y="6021360"/>
            <a:ext cx="4346280" cy="5317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              Ange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Hanta pronto, chica boni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Te guesta: Commentario 5 sceonds ago            Octubre 22, de 201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057400" y="194940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y bien contento y emocionado de viernes!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444600" y="56070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l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4" descr="428767_325455040829355_459195800_n.jpg"/>
          <p:cNvPicPr/>
          <p:nvPr/>
        </p:nvPicPr>
        <p:blipFill>
          <a:blip r:embed="rId1"/>
          <a:stretch/>
        </p:blipFill>
        <p:spPr>
          <a:xfrm>
            <a:off x="457200" y="457200"/>
            <a:ext cx="92088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178000" y="3138480"/>
            <a:ext cx="380880" cy="50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96" name="Picture 60" descr=""/>
          <p:cNvPicPr/>
          <p:nvPr/>
        </p:nvPicPr>
        <p:blipFill>
          <a:blip r:embed="rId3"/>
          <a:stretch/>
        </p:blipFill>
        <p:spPr>
          <a:xfrm>
            <a:off x="2232000" y="2513160"/>
            <a:ext cx="257040" cy="534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2" descr=""/>
          <p:cNvPicPr/>
          <p:nvPr/>
        </p:nvPicPr>
        <p:blipFill>
          <a:blip r:embed="rId4"/>
          <a:stretch/>
        </p:blipFill>
        <p:spPr>
          <a:xfrm>
            <a:off x="2033640" y="3497400"/>
            <a:ext cx="646200" cy="927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0" descr=""/>
          <p:cNvPicPr/>
          <p:nvPr/>
        </p:nvPicPr>
        <p:blipFill>
          <a:blip r:embed="rId5"/>
          <a:stretch/>
        </p:blipFill>
        <p:spPr>
          <a:xfrm>
            <a:off x="2249640" y="5135400"/>
            <a:ext cx="25848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6"/>
          <a:stretch/>
        </p:blipFill>
        <p:spPr>
          <a:xfrm>
            <a:off x="2147760" y="4362480"/>
            <a:ext cx="387360" cy="51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"/>
          <p:cNvPicPr/>
          <p:nvPr/>
        </p:nvPicPr>
        <p:blipFill>
          <a:blip r:embed="rId7"/>
          <a:stretch/>
        </p:blipFill>
        <p:spPr>
          <a:xfrm>
            <a:off x="2146320" y="5946840"/>
            <a:ext cx="390600" cy="51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7" descr=""/>
          <p:cNvPicPr/>
          <p:nvPr/>
        </p:nvPicPr>
        <p:blipFill>
          <a:blip r:embed="rId8"/>
          <a:stretch/>
        </p:blipFill>
        <p:spPr>
          <a:xfrm>
            <a:off x="157320" y="4657680"/>
            <a:ext cx="330120" cy="4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02" name="Picture 4" descr=""/>
          <p:cNvPicPr/>
          <p:nvPr/>
        </p:nvPicPr>
        <p:blipFill>
          <a:blip r:embed="rId9"/>
          <a:stretch/>
        </p:blipFill>
        <p:spPr>
          <a:xfrm>
            <a:off x="561960" y="4676760"/>
            <a:ext cx="378000" cy="422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03" name="Picture 5" descr=""/>
          <p:cNvPicPr/>
          <p:nvPr/>
        </p:nvPicPr>
        <p:blipFill>
          <a:blip r:embed="rId10"/>
          <a:stretch/>
        </p:blipFill>
        <p:spPr>
          <a:xfrm>
            <a:off x="1057320" y="4672080"/>
            <a:ext cx="237960" cy="426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04" name="Picture 7" descr=""/>
          <p:cNvPicPr/>
          <p:nvPr/>
        </p:nvPicPr>
        <p:blipFill>
          <a:blip r:embed="rId11"/>
          <a:stretch/>
        </p:blipFill>
        <p:spPr>
          <a:xfrm>
            <a:off x="100080" y="5278320"/>
            <a:ext cx="409680" cy="408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192600" y="64785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2"/>
          <a:stretch/>
        </p:blipFill>
        <p:spPr>
          <a:xfrm>
            <a:off x="561960" y="5278320"/>
            <a:ext cx="314280" cy="381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13"/>
          <a:stretch/>
        </p:blipFill>
        <p:spPr>
          <a:xfrm>
            <a:off x="965160" y="5259240"/>
            <a:ext cx="355680" cy="3574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888840" y="5554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4"/>
          <a:stretch/>
        </p:blipFill>
        <p:spPr>
          <a:xfrm>
            <a:off x="120600" y="5880240"/>
            <a:ext cx="354240" cy="2826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0"/>
          <p:cNvSpPr/>
          <p:nvPr/>
        </p:nvSpPr>
        <p:spPr>
          <a:xfrm>
            <a:off x="55440" y="6087960"/>
            <a:ext cx="6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ys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"/>
          <p:cNvPicPr/>
          <p:nvPr/>
        </p:nvPicPr>
        <p:blipFill>
          <a:blip r:embed="rId15"/>
          <a:stretch/>
        </p:blipFill>
        <p:spPr>
          <a:xfrm>
            <a:off x="581040" y="5818320"/>
            <a:ext cx="444600" cy="333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2"/>
          <p:cNvSpPr/>
          <p:nvPr/>
        </p:nvSpPr>
        <p:spPr>
          <a:xfrm>
            <a:off x="557280" y="6091200"/>
            <a:ext cx="511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y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8" descr=""/>
          <p:cNvPicPr/>
          <p:nvPr/>
        </p:nvPicPr>
        <p:blipFill>
          <a:blip r:embed="rId16"/>
          <a:stretch/>
        </p:blipFill>
        <p:spPr>
          <a:xfrm>
            <a:off x="1066680" y="5867280"/>
            <a:ext cx="330480" cy="3304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5"/>
          <p:cNvSpPr/>
          <p:nvPr/>
        </p:nvSpPr>
        <p:spPr>
          <a:xfrm>
            <a:off x="57240" y="66279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6"/>
          <p:cNvSpPr/>
          <p:nvPr/>
        </p:nvSpPr>
        <p:spPr>
          <a:xfrm>
            <a:off x="990720" y="6172200"/>
            <a:ext cx="7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rina Bela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trina Bel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152280" y="24382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 fotos de Katrina Bel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52280" y="2666880"/>
            <a:ext cx="2324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ar mensaje a Katrina Bel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152280" y="28954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pea a Katrina Belan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  <a:ea typeface="ＭＳ Ｐゴシック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5"/>
          <p:cNvSpPr/>
          <p:nvPr/>
        </p:nvSpPr>
        <p:spPr>
          <a:xfrm>
            <a:off x="157320" y="46213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6"/>
          <p:cNvSpPr/>
          <p:nvPr/>
        </p:nvSpPr>
        <p:spPr>
          <a:xfrm>
            <a:off x="157320" y="4392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2"/>
          <p:cNvSpPr/>
          <p:nvPr/>
        </p:nvSpPr>
        <p:spPr>
          <a:xfrm>
            <a:off x="0" y="50626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gel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0"/>
          <p:cNvSpPr/>
          <p:nvPr/>
        </p:nvSpPr>
        <p:spPr>
          <a:xfrm>
            <a:off x="2743200" y="32004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7"/>
          <p:cNvSpPr/>
          <p:nvPr/>
        </p:nvSpPr>
        <p:spPr>
          <a:xfrm>
            <a:off x="228600" y="3581280"/>
            <a:ext cx="142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! Me llamo Katrina. Vivo en Astoria, Nueva York. Yo tengo quince años. No, tengo hermanos. Yo so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cioso y </a:t>
            </a:r>
            <a:r>
              <a:rPr b="0" lang="es-ES_tradnl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ige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2"/>
          <p:cNvSpPr/>
          <p:nvPr/>
        </p:nvSpPr>
        <p:spPr>
          <a:xfrm>
            <a:off x="457200" y="50626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a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4"/>
          <p:cNvSpPr/>
          <p:nvPr/>
        </p:nvSpPr>
        <p:spPr>
          <a:xfrm>
            <a:off x="19080" y="5637240"/>
            <a:ext cx="7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 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6"/>
          <p:cNvSpPr/>
          <p:nvPr/>
        </p:nvSpPr>
        <p:spPr>
          <a:xfrm flipH="1">
            <a:off x="968400" y="49100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i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716200" y="3790800"/>
            <a:ext cx="3886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llamo es Katrina. El es bie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2681280" y="3208320"/>
            <a:ext cx="4253040" cy="4492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            Daph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llamo es April, 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y tu?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ómo está tu hermano?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30 minutes ago   Octubre 21, de 2011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2692440" y="253836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Buenas Noches!!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¿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te llam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2705040" y="4430880"/>
            <a:ext cx="42292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Ange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chica!! 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ándo me vas a visitar?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2  minutes ago   Octubre 22, de 201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7"/>
          <p:cNvSpPr/>
          <p:nvPr/>
        </p:nvSpPr>
        <p:spPr>
          <a:xfrm>
            <a:off x="2692440" y="5181480"/>
            <a:ext cx="4241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Jennifer!! Yo quiero ir a tu fies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: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 minute ago       Octubre 22, de 2011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7"/>
          <p:cNvSpPr/>
          <p:nvPr/>
        </p:nvSpPr>
        <p:spPr>
          <a:xfrm>
            <a:off x="2664000" y="6021360"/>
            <a:ext cx="4346280" cy="5317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              Ange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Hanta pronto, chica boni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Te guesta: Commentario 5 sceonds ago            Octubre 22, de 201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6"/>
          <p:cNvSpPr/>
          <p:nvPr/>
        </p:nvSpPr>
        <p:spPr>
          <a:xfrm>
            <a:off x="2057400" y="194940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</a:t>
            </a:r>
            <a:r>
              <a:rPr b="0" lang="es-E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y bien contento y emocionado de viernes!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2"/>
          <p:cNvSpPr/>
          <p:nvPr/>
        </p:nvSpPr>
        <p:spPr>
          <a:xfrm>
            <a:off x="444600" y="56070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l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4" descr="428767_325455040829355_459195800_n.jpg"/>
          <p:cNvPicPr/>
          <p:nvPr/>
        </p:nvPicPr>
        <p:blipFill>
          <a:blip r:embed="rId1"/>
          <a:stretch/>
        </p:blipFill>
        <p:spPr>
          <a:xfrm>
            <a:off x="457200" y="457200"/>
            <a:ext cx="920880" cy="1905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0" descr=""/>
          <p:cNvPicPr/>
          <p:nvPr/>
        </p:nvPicPr>
        <p:blipFill>
          <a:blip r:embed="rId2"/>
          <a:stretch/>
        </p:blipFill>
        <p:spPr>
          <a:xfrm>
            <a:off x="2232000" y="2513160"/>
            <a:ext cx="257040" cy="534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2" descr=""/>
          <p:cNvPicPr/>
          <p:nvPr/>
        </p:nvPicPr>
        <p:blipFill>
          <a:blip r:embed="rId3"/>
          <a:stretch/>
        </p:blipFill>
        <p:spPr>
          <a:xfrm>
            <a:off x="2033640" y="3497400"/>
            <a:ext cx="646200" cy="927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0" descr=""/>
          <p:cNvPicPr/>
          <p:nvPr/>
        </p:nvPicPr>
        <p:blipFill>
          <a:blip r:embed="rId4"/>
          <a:stretch/>
        </p:blipFill>
        <p:spPr>
          <a:xfrm>
            <a:off x="2209680" y="5181480"/>
            <a:ext cx="258840" cy="533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7" descr=""/>
          <p:cNvPicPr/>
          <p:nvPr/>
        </p:nvPicPr>
        <p:blipFill>
          <a:blip r:embed="rId5"/>
          <a:stretch/>
        </p:blipFill>
        <p:spPr>
          <a:xfrm>
            <a:off x="157320" y="4657680"/>
            <a:ext cx="330120" cy="4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67" name="Picture 4" descr=""/>
          <p:cNvPicPr/>
          <p:nvPr/>
        </p:nvPicPr>
        <p:blipFill>
          <a:blip r:embed="rId6"/>
          <a:stretch/>
        </p:blipFill>
        <p:spPr>
          <a:xfrm>
            <a:off x="561960" y="4676760"/>
            <a:ext cx="378000" cy="422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68" name="Picture 5" descr=""/>
          <p:cNvPicPr/>
          <p:nvPr/>
        </p:nvPicPr>
        <p:blipFill>
          <a:blip r:embed="rId7"/>
          <a:stretch/>
        </p:blipFill>
        <p:spPr>
          <a:xfrm>
            <a:off x="1057320" y="4672080"/>
            <a:ext cx="237960" cy="426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69" name="Picture 7" descr=""/>
          <p:cNvPicPr/>
          <p:nvPr/>
        </p:nvPicPr>
        <p:blipFill>
          <a:blip r:embed="rId8"/>
          <a:stretch/>
        </p:blipFill>
        <p:spPr>
          <a:xfrm>
            <a:off x="100080" y="5278320"/>
            <a:ext cx="409680" cy="4082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8"/>
          <p:cNvSpPr/>
          <p:nvPr/>
        </p:nvSpPr>
        <p:spPr>
          <a:xfrm>
            <a:off x="192600" y="64785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9"/>
          <a:stretch/>
        </p:blipFill>
        <p:spPr>
          <a:xfrm>
            <a:off x="609480" y="5257800"/>
            <a:ext cx="314280" cy="380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10"/>
          <a:stretch/>
        </p:blipFill>
        <p:spPr>
          <a:xfrm>
            <a:off x="965160" y="5259240"/>
            <a:ext cx="355680" cy="3574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6"/>
          <p:cNvSpPr/>
          <p:nvPr/>
        </p:nvSpPr>
        <p:spPr>
          <a:xfrm>
            <a:off x="888840" y="5554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11"/>
          <a:stretch/>
        </p:blipFill>
        <p:spPr>
          <a:xfrm>
            <a:off x="120600" y="5880240"/>
            <a:ext cx="354240" cy="2826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0"/>
          <p:cNvSpPr/>
          <p:nvPr/>
        </p:nvSpPr>
        <p:spPr>
          <a:xfrm>
            <a:off x="55440" y="6087960"/>
            <a:ext cx="6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ys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"/>
          <p:cNvPicPr/>
          <p:nvPr/>
        </p:nvPicPr>
        <p:blipFill>
          <a:blip r:embed="rId12"/>
          <a:stretch/>
        </p:blipFill>
        <p:spPr>
          <a:xfrm>
            <a:off x="581040" y="5818320"/>
            <a:ext cx="444600" cy="33336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2"/>
          <p:cNvSpPr/>
          <p:nvPr/>
        </p:nvSpPr>
        <p:spPr>
          <a:xfrm>
            <a:off x="557280" y="6091200"/>
            <a:ext cx="511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y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8" descr=""/>
          <p:cNvPicPr/>
          <p:nvPr/>
        </p:nvPicPr>
        <p:blipFill>
          <a:blip r:embed="rId13"/>
          <a:stretch/>
        </p:blipFill>
        <p:spPr>
          <a:xfrm>
            <a:off x="1066680" y="5867280"/>
            <a:ext cx="330480" cy="3304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25"/>
          <p:cNvSpPr/>
          <p:nvPr/>
        </p:nvSpPr>
        <p:spPr>
          <a:xfrm>
            <a:off x="76320" y="66736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990720" y="6172200"/>
            <a:ext cx="7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"/>
          <p:cNvPicPr/>
          <p:nvPr/>
        </p:nvPicPr>
        <p:blipFill>
          <a:blip r:embed="rId14"/>
          <a:stretch/>
        </p:blipFill>
        <p:spPr>
          <a:xfrm>
            <a:off x="2133720" y="3200400"/>
            <a:ext cx="409320" cy="407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15"/>
          <a:stretch/>
        </p:blipFill>
        <p:spPr>
          <a:xfrm>
            <a:off x="2209680" y="4419720"/>
            <a:ext cx="381240" cy="461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16"/>
          <a:stretch/>
        </p:blipFill>
        <p:spPr>
          <a:xfrm>
            <a:off x="2133720" y="6019920"/>
            <a:ext cx="38088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5:52Z</dcterms:created>
  <dc:creator>FriscoISD</dc:creator>
  <dc:description/>
  <dc:language>en-US</dc:language>
  <cp:lastModifiedBy>User</cp:lastModifiedBy>
  <dcterms:modified xsi:type="dcterms:W3CDTF">2013-01-02T14:07:55Z</dcterms:modified>
  <cp:revision>133</cp:revision>
  <dc:subject/>
  <dc:title>Profile</dc:title>
</cp:coreProperties>
</file>